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35711"/>
        <c:axId val="29739533"/>
      </c:barChart>
      <c:catAx>
        <c:axId val="76435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39533"/>
        <c:crosses val="autoZero"/>
        <c:auto val="1"/>
        <c:lblAlgn val="ctr"/>
        <c:lblOffset val="100"/>
        <c:noMultiLvlLbl val="0"/>
      </c:catAx>
      <c:valAx>
        <c:axId val="29739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35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031-7709-4021-9654-1B13C3FF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02F-3C3A-4855-A960-88E3AC8F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E703-D180-43CB-9E86-7AEF96B1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55E-EE6E-446C-B9AD-F9D8DEF8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1A36-5A83-462D-ADF3-6699D153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8F5C-CE1C-4AAB-8388-DCB15A8E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F3C-D40C-41B4-AB17-4C04FEA0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6DB-D3E6-4F2F-B07D-76A57062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041-F4E0-4BB5-8C4B-7510EDB9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D80-CE4F-414A-A50F-E30069C8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CA1-8266-4C01-B7BD-7AF7046B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04F-F490-4775-99EC-62F19491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E0FAE-8392-4F5C-8197-CFD197BEF6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