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16989"/>
        <c:axId val="86740672"/>
      </c:barChart>
      <c:catAx>
        <c:axId val="98816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40672"/>
        <c:crosses val="autoZero"/>
        <c:auto val="1"/>
        <c:lblAlgn val="ctr"/>
        <c:lblOffset val="100"/>
        <c:noMultiLvlLbl val="0"/>
      </c:catAx>
      <c:valAx>
        <c:axId val="86740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16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09F-FE46-4A8A-8AB6-A56C5500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0C8-4F0C-4C7C-9E30-9D391B3C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02E-BBC3-4CF2-9C04-C7A907FE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BA6-EDA3-4466-883F-35856C3F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CDA-02F4-463A-A0FD-820966E2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D9A-9D9C-4B4B-ABB2-87AB6B74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954-9806-4903-9642-8F65CC3D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A04-D127-4194-B059-7E960BB9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E37-07BA-4D4D-9A78-B5715E04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F09-83C8-453A-988A-5DD9A169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796-D6E0-46E9-A1AA-6122CA03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F6C-9E99-4136-821B-A8228237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25ACE-7443-4B3D-BB79-9DD7052AA7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