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3302233"/>
        <c:axId val="32289727"/>
      </c:barChart>
      <c:catAx>
        <c:axId val="9330223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2289727"/>
        <c:crosses val="autoZero"/>
        <c:auto val="1"/>
        <c:lblAlgn val="ctr"/>
        <c:lblOffset val="100"/>
        <c:noMultiLvlLbl val="0"/>
      </c:catAx>
      <c:valAx>
        <c:axId val="3228972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30223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A9D30-05BD-4F6E-BC8E-02CC78BDA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B58E2-76FA-4B3E-9076-55BC845C4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40AED-EE50-489C-97C7-9B7650338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8D2D4-ADB8-4884-82C2-5CFCFC1A3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942F3-8E83-46F1-8219-343054AAA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A15FB-0F4F-49B3-93F5-53ECDDF7F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C717F-BDE2-4879-BCB7-6D4C531D0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F847D-DBB7-4FB3-B06C-D795AF6A1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A141C-9753-40D1-9447-31E82273F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A0420-903F-4C49-9045-8992DC428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1B9D4-9864-41FF-8347-78D48F582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B8334-88BF-4B28-8A03-FA08D7A3D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91590F-1EAA-4CD1-80A2-7475E38C646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